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82F-87F7-480F-8192-8F35C74C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044-086E-4C40-AD72-E7E83D34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265-1A6D-47F3-A3BC-F65BC034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92D-5065-42C3-BD47-7AC14A015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533-2046-4BC9-97A1-0A3873B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31A-7128-4169-9AA8-D3E6525F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955-0919-4A64-A500-C4894A48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CCE-6FAE-42F8-A275-A78A235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641-8542-41BD-9C89-E393A77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6E4-0057-46E3-9DEF-C46E5BD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650-FEEE-4874-9A5D-980EE7A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82A-B41C-47D6-BFD8-CBEF4C8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14D4-3AF4-43EB-9617-F5208E130C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7080" y="4266720"/>
            <a:ext cx="51818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2" name="Picture 6" descr="Картинка 155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>
            <a:off x="304920" y="2514600"/>
            <a:ext cx="868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мы умеем любить своего ребёнка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657600" y="4343400"/>
            <a:ext cx="52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ffff"/>
                </a:solidFill>
                <a:latin typeface="Arial"/>
              </a:rPr>
              <a:t>Поверь мне, счастье только там, где любят нас, где верят нам!</a:t>
            </a:r>
            <a:br>
              <a:rPr sz="2400"/>
            </a:br>
            <a:r>
              <a:rPr b="1" i="1" lang="ru-RU" sz="2400" spc="-1" strike="noStrike">
                <a:solidFill>
                  <a:srgbClr val="66ffff"/>
                </a:solidFill>
                <a:latin typeface="Arial"/>
              </a:rPr>
              <a:t>                            М. Лермон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219320" y="5943600"/>
            <a:ext cx="79246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Выполнила: Малышева Ю.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 «СОШ №3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й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Нет врем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266652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сли есть ребенок, надо   и время для него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304662-003"/>
          <p:cNvPicPr/>
          <p:nvPr/>
        </p:nvPicPr>
        <p:blipFill>
          <a:blip r:embed="rId1"/>
          <a:stretch/>
        </p:blipFill>
        <p:spPr>
          <a:xfrm>
            <a:off x="5334120" y="2209680"/>
            <a:ext cx="2438280" cy="368460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-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Слишком мало лас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Приветствуйте своих детей нежным объятием, поцелуем или уверенным пожатием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артинка 40 из 127472"/>
          <p:cNvPicPr/>
          <p:nvPr/>
        </p:nvPicPr>
        <p:blipFill>
          <a:blip r:embed="rId1"/>
          <a:stretch/>
        </p:blipFill>
        <p:spPr>
          <a:xfrm>
            <a:off x="5257800" y="2209680"/>
            <a:ext cx="2743200" cy="3230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2666520"/>
            <a:ext cx="33526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Картинка 53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0"/>
          <p:cNvSpPr txBox="1"/>
          <p:nvPr/>
        </p:nvSpPr>
        <p:spPr>
          <a:xfrm>
            <a:off x="380880" y="4191120"/>
            <a:ext cx="8229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492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ОЯВЛЕНИЯ ЛЮБВИ</a:t>
            </a:r>
            <a:endParaRPr b="1" lang="en-US" sz="4800" spc="1" strike="noStrike">
              <a:ln w="3492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Arial"/>
              </a:rPr>
              <a:t>Формы проявлений люб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Контакт гл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Физический конта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Пристальное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Admin\Рабочий стол\Папки\ИРИНА\р4.jpg"/>
          <p:cNvPicPr/>
          <p:nvPr/>
        </p:nvPicPr>
        <p:blipFill>
          <a:blip r:embed="rId1"/>
          <a:stretch/>
        </p:blipFill>
        <p:spPr>
          <a:xfrm>
            <a:off x="1066680" y="4343400"/>
            <a:ext cx="1600200" cy="14986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95" name="Picture 5" descr="Картинка 146 из 127471"/>
          <p:cNvPicPr/>
          <p:nvPr/>
        </p:nvPicPr>
        <p:blipFill>
          <a:blip r:embed="rId2"/>
          <a:stretch/>
        </p:blipFill>
        <p:spPr>
          <a:xfrm>
            <a:off x="3352680" y="3886200"/>
            <a:ext cx="2514600" cy="163980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96" name="Picture 6" descr="Картинка 88 из 127471"/>
          <p:cNvPicPr/>
          <p:nvPr/>
        </p:nvPicPr>
        <p:blipFill>
          <a:blip r:embed="rId3"/>
          <a:stretch/>
        </p:blipFill>
        <p:spPr>
          <a:xfrm>
            <a:off x="6705720" y="2286000"/>
            <a:ext cx="2004840" cy="2971800"/>
          </a:xfrm>
          <a:prstGeom prst="rect">
            <a:avLst/>
          </a:prstGeom>
          <a:ln w="22320">
            <a:solidFill>
              <a:srgbClr val="000080"/>
            </a:solidFill>
            <a:miter/>
          </a:ln>
        </p:spPr>
      </p:pic>
    </p:spTree>
  </p:cSld>
  <p:transition spd="med">
    <p:checke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Контакт гл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Любовь начинается с глаз. Глазами влюбляются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нтакт глаз – это возможность проявить теплые чувства друг к друг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1811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Картинка 21 из 5081"/>
          <p:cNvPicPr/>
          <p:nvPr/>
        </p:nvPicPr>
        <p:blipFill>
          <a:blip r:embed="rId1"/>
          <a:stretch/>
        </p:blipFill>
        <p:spPr>
          <a:xfrm>
            <a:off x="5105520" y="1828800"/>
            <a:ext cx="3504960" cy="37339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й контак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е бойтесь, что заласканному ребенку будет в жизни трудно. Теплые, ласковые прикосновения смягчают душу ребенка и снимают напряж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Картинка 146 из 127471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5909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476360" y="260280"/>
            <a:ext cx="648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Times New Roman"/>
              </a:rPr>
              <a:t>Метод объятий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1143000" y="1600200"/>
            <a:ext cx="7020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Ежедневно рекомендуется:</a:t>
            </a:r>
            <a:endParaRPr b="1" i="1" lang="en-US" sz="4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611280" y="2637000"/>
            <a:ext cx="617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5 объятий для выживания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1332000" y="3573360"/>
            <a:ext cx="6867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10 объятий для поддержки</a:t>
            </a:r>
            <a:endParaRPr b="1" i="1" lang="en-US" sz="4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1981080" y="4581360"/>
            <a:ext cx="7162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* 15 объятий для развития ребёнка</a:t>
            </a:r>
            <a:endParaRPr b="1" i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109" name="Picture 8" descr="Картинка 73 из 127471"/>
          <p:cNvPicPr/>
          <p:nvPr/>
        </p:nvPicPr>
        <p:blipFill>
          <a:blip r:embed="rId1"/>
          <a:stretch/>
        </p:blipFill>
        <p:spPr>
          <a:xfrm>
            <a:off x="152280" y="495288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«Любое прикосновение присоединяет тело и душу. Чувства обостряются, душа оживает. Мы начинаем светиться внутренним излучением. И становимся красивы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емецкий психо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стера Хольтманншпет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Картинка 58 из 127472"/>
          <p:cNvPicPr/>
          <p:nvPr/>
        </p:nvPicPr>
        <p:blipFill>
          <a:blip r:embed="rId1"/>
          <a:stretch/>
        </p:blipFill>
        <p:spPr>
          <a:xfrm>
            <a:off x="457200" y="3505320"/>
            <a:ext cx="243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еликие любят неж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Альберт Эйнштейн, когда испытывал трудности в научной работе шёл к жене: «Я просил обнять меня. Тепло и внимание женщины давало мне новый толчок энерг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Пикассо, если в голову не приходила новая идея, любил, чтобы ему массировали сп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Симеон отправлялся к маникюрше, когда рука не тянулась к п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Пристальное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стальное внимание предполагает возможность сосредоточиться на ребенке, так, чтобы он чувствовал себя особенным, единственным в своем р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Картинка 526 из 128111"/>
          <p:cNvPicPr/>
          <p:nvPr/>
        </p:nvPicPr>
        <p:blipFill>
          <a:blip r:embed="rId1"/>
          <a:stretch/>
        </p:blipFill>
        <p:spPr>
          <a:xfrm>
            <a:off x="4648320" y="2332080"/>
            <a:ext cx="3886200" cy="330660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Rose"/>
          <p:cNvPicPr/>
          <p:nvPr/>
        </p:nvPicPr>
        <p:blipFill>
          <a:blip r:embed="rId1"/>
          <a:stretch/>
        </p:blipFill>
        <p:spPr>
          <a:xfrm>
            <a:off x="0" y="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97272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35280" y="3933360"/>
            <a:ext cx="5694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-304920" y="260280"/>
            <a:ext cx="887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Чувства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Доброта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частье,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заимопонимание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важение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 rot="526800">
            <a:off x="1599840" y="2133720"/>
            <a:ext cx="5391000" cy="30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16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1" i="1" lang="en-US" sz="9600" spc="1" strike="noStrike">
              <a:ln w="316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74800" y="3108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49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286000" y="125280"/>
            <a:ext cx="45720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солн"/>
          <p:cNvPicPr/>
          <p:nvPr/>
        </p:nvPicPr>
        <p:blipFill>
          <a:blip r:embed="rId1"/>
          <a:stretch/>
        </p:blipFill>
        <p:spPr>
          <a:xfrm>
            <a:off x="762120" y="-380880"/>
            <a:ext cx="6629400" cy="541008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905120" y="4343400"/>
            <a:ext cx="513396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33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 любви всё - ничто!</a:t>
            </a:r>
            <a:endParaRPr b="1" lang="en-US" sz="1800" spc="1" strike="noStrike">
              <a:ln w="28440">
                <a:solidFill>
                  <a:srgbClr val="ff33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«Каждое утро взываю к тому лучшему, что есть во мне: "Мне послан ребенок; это дорогой мой гость; я благодарен ему за то, что он есть. Он также призван к жизни, как и я, это нас объединяет - мы есть, мы живые люди. Он такой же как и я, он человек, и не будущий человек, а сегодняшний, и потому он другой, как и все люди; я его принимаю, как всякого другого человека. Я принимаю ребенка: Я принимаю его, я охраняю его детство, я понимаю, терплю, принимаю, прощаю. Я не применяю силу к нему, не угнетаю его своей силой, потому, что я его люблю. Я люблю его, и я благодарен ему за то, что он есть, и за то, что я могу его любить, и тем самым я возвышаюсь в духе сво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838080" y="259092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4400" spc="1" strike="noStrike">
              <a:ln w="255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ff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893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99"/>
                </a:solidFill>
                <a:latin typeface="Arial"/>
              </a:rPr>
              <a:t>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2971800" y="16002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Картинка 48 из 90098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5"/>
          <p:cNvSpPr/>
          <p:nvPr/>
        </p:nvSpPr>
        <p:spPr>
          <a:xfrm>
            <a:off x="457200" y="1523880"/>
            <a:ext cx="86868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сякая любовь истинна и прекрасна по – своему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ишь бы она была в сердце, а не в голове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. Белин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юбовь- это единственный разумный и удовлетворительный ответ на вопрос  о смысле человеческого существ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Э. Фром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Любить умеет не только тот, кто любит кричать о  своей любви: у многих чувство выражается и словом  и делом, у иного только делом, и. может быть, тем сильнее, чем молчаливе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. Чернышевск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7"/>
          <p:cNvSpPr txBox="1"/>
          <p:nvPr/>
        </p:nvSpPr>
        <p:spPr>
          <a:xfrm>
            <a:off x="1523880" y="457200"/>
            <a:ext cx="5153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800000"/>
                  </a:solidFill>
                  <a:miter/>
                </a:ln>
                <a:solidFill>
                  <a:srgbClr val="ccff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ЕЛИКИЕ О ЛЮБВИ:</a:t>
            </a:r>
            <a:endParaRPr b="1" i="1" lang="en-US" sz="4400" spc="1" strike="noStrike">
              <a:ln w="25560">
                <a:solidFill>
                  <a:srgbClr val="800000"/>
                </a:solidFill>
                <a:miter/>
              </a:ln>
              <a:solidFill>
                <a:srgbClr val="ccff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Тест: «Какой вы родитель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380880"/>
            <a:ext cx="845820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62120" y="909720"/>
            <a:ext cx="7391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у что за друзья у тебя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колько раз тебе повторять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советуй мне, пожалуйст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 знаю, чтобы я без тебя делал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в кого ты такой уродился?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ие у тебя замечательные друзья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у на кого ты похож(а)?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Я в твое время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ы мне опора и помощник (ица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 чём ты только думаешь?!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й (ая) ты у меня умн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как ты считаешь, сынок (доченька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 всех дети как дети, а ты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й ты у меня сообразительный!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цените результаты, поставив себе 2 балла за ответы № 1, 2, 5, 7, 8, 10, 13 и 1 балл за все остальные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7-8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Живёте душа в душу. Ребёнок любит и уважает 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-10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Вы непоследовательны в общении. Ребёнок вас уважает, но не всегда откровен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1-12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Необходимо быть к ребёнку внимательнее. Авторитет не заменяет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3-14 балл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Идёте по неверному пути. Существует недоверие между вами и ребёнком. Уделяйте ему больше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2050"/>
          <p:cNvPicPr/>
          <p:nvPr/>
        </p:nvPicPr>
        <p:blipFill>
          <a:blip r:embed="rId1"/>
          <a:srcRect l="4087" t="0" r="15326" b="0"/>
          <a:stretch/>
        </p:blipFill>
        <p:spPr>
          <a:xfrm>
            <a:off x="0" y="0"/>
            <a:ext cx="95457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>
            <a:off x="914400" y="762120"/>
            <a:ext cx="7010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5 ошибок в воспитании:</a:t>
            </a:r>
            <a:endParaRPr b="1" lang="en-US" sz="4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ahoma"/>
              </a:rPr>
              <a:t>Обещание больше не люби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Дет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чувствуют фаль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диножды обману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вы надолго потеряете доверие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Картинка 70 из 578"/>
          <p:cNvPicPr/>
          <p:nvPr/>
        </p:nvPicPr>
        <p:blipFill>
          <a:blip r:embed="rId1"/>
          <a:stretch/>
        </p:blipFill>
        <p:spPr>
          <a:xfrm>
            <a:off x="4876920" y="1981080"/>
            <a:ext cx="3733560" cy="38102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c0000"/>
                </a:solidFill>
                <a:uFillTx/>
                <a:latin typeface="Tahoma"/>
              </a:rPr>
              <a:t>Безразличие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 показывайте ребенку, что вам все равно, чем он занимается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Картинка 60 из 365"/>
          <p:cNvPicPr/>
          <p:nvPr/>
        </p:nvPicPr>
        <p:blipFill>
          <a:blip r:embed="rId1"/>
          <a:stretch/>
        </p:blipFill>
        <p:spPr>
          <a:xfrm>
            <a:off x="4952880" y="1752480"/>
            <a:ext cx="3200400" cy="3962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Tahoma"/>
              </a:rPr>
              <a:t>Навязанная 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228600" y="190476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Дети готовы погрузиться в мир сложных взрослых проблем, вместо того чтобы обсуждать свои интересы со сверст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Картинка 32 из 578"/>
          <p:cNvPicPr/>
          <p:nvPr/>
        </p:nvPicPr>
        <p:blipFill>
          <a:blip r:embed="rId1"/>
          <a:stretch/>
        </p:blipFill>
        <p:spPr>
          <a:xfrm>
            <a:off x="4800600" y="2209680"/>
            <a:ext cx="3581280" cy="3657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3-10-28T08:09:2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